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3AC-BEC3-422C-8A18-6DD2415E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791-DCF3-46F5-84AE-27C094C7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5F2-44BF-466C-A27D-87C0197C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4D5-41FA-43B9-AC11-A6052525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72A2-AE1E-4AFE-8AE3-D22190C7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B617-9BE4-4246-83E1-072E928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D3F7-F97F-4693-B7A9-F423B217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29AC8-A67C-4EA1-8496-38DE049F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1E91-45DB-4585-A571-43DA318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363D-BFE5-4EC4-AD41-47053744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F347-8402-43D7-B5D8-11E0C4D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BFE-DDAD-4B35-9EB0-4358EB8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B10D7-F664-488A-8BCA-C8D20E3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3DF6-D348-4E8F-A051-5ADC8D2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DFB4B-B991-4C6F-9F56-B785EC6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34B8-4B6A-4DC1-97D9-9A83E682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8856A-DEE6-40BA-B401-84F288BE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BE4-A586-4BB8-BF8B-E986373A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65B-6EA6-4216-81D9-F04F380C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8CB-E176-4228-9B80-0126370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EE5-D6EF-4AD4-BACC-1FBEB05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8F7-F1C5-4DFD-8D52-87939F5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FC7-AD1D-4016-A3B8-D966C86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8BB-90CA-4D50-B423-191EE5C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B20-1422-4502-9151-160FC92E1E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F39E-333F-42C9-AD4E-2166E5A72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605-9811-43B5-9314-89AD1C562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38FC-0188-40E8-999C-09708874B9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lingual Programs, (Dual-Language &amp; Immersion), and Learning Mod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Finding the most compatible matches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C661D-9A87-4F26-BA15-9DF83B9516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CE8AC617-8D83-4363-B70F-DF8AEE4C0624}" type="datetime1">
              <a:rPr lang="en-US"/>
              <a:t>07/29/26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- Stat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ing a bilingual program to the compatible learning styles of te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graders in P.S. X in Queens, NY,  over a grading period, will measurably increase language proficiency in Reading &amp; Wri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D19-CE5D-4F22-BFCD-8C90BAEEB3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6D006-7DB3-4426-BBD4-65A48EC554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s, M., Jones, K., M. (2006). Unmasking the Myths of Structured Englis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mersion: Why We Still Need Bilingual Educators, Native Language Instruction, and Incorporation of Home Culture. Radical Teacher, 75, 16-2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rmstrong, Th. ((2000). Multiple Intelligences.  Retrieved from: www.ThomasArmstrong.co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ristian, D. (1996). Two-Way Immersion Education: Students Learning Through Two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s.  The Modern Language Journal, 80, 66-7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di-Tabassum, S. (1999).  Assessing Students’ Attitudes &amp; Achievements in 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lticultural &amp; Multilingual Science Classroom.  Multicultural Education, no7 (2), 15-2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ng-Soon, S, Yeok-Hwa, N.  (1998). Effective English as a Second Languag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ruction With Interactive Multimedia: The MCALL Project.  Journal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ucational Multimedia and Hypermedia, no7(1), 71-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nguistic Diversity and Classroom Management”, Theory into Practice no4, 200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nbardi, J. (2008). Beyond Learning Styles: Brain-Based Research and Englis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 Learners. The Clearing House, no81(5), 219-2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ian, M., Pearson, V. (2005).  Students with Visual Impairments in a Dual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nguage Program: A Case Study. Journal of Visual Impairment &amp; Blindness, no99 (11), 715-2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rter, Pedalino, R. (1998). Twisted Tongues: The Failure of Bilingual Education. REA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itute. Retrieved from http://www.gwu.edu/~ccps/pop_billing.htm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t IV: Glossary. Retrieved from http://www2.ed.gov/about/offices/list/ocr/ell/edlite-glossary.htm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2F3-3745-4DD0-A11F-3D6D4CF7DE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805B3-3034-4A74-AF96-95F2070664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the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of Related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mersion Experiment 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C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FE8-4982-45DF-A939-8F353A21AC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6CFD-CB88-433B-A43E-E7F6758B4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atement of the Problem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he extent to which the bilingual programs- Dual-Language and Immersion- can succeed across the board is dependant- pedagogically, upon how well they can be assimilated by the learner.  Assimilation occurs via a student’s learning style. How can D-L and Immersion be modified so that they appeal to all learner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his inquiry is significant, since student success- and conversely, failure- is dependant upon linking the correct style to compatible learners.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940-EFF7-4D21-ABBD-623DA66199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F81A1-BF8A-4733-8059-0E2F20CDC6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Literature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ual-Langu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Pro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Hadi-Tabassum, 1999; Christian, D., 1996; 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Con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Arnstrong, Th., 2000; Jones, M., 2006; Porter, R.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ructured English Imm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Pro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Linguistic Diversity and Classroom Management”,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Cons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: Klein, A., 2008; Mays, L., 2008; Porter, R. 1998; Keng-Soon, S. &amp; Yeok-Hwa, N., 1998; Milian, M. &amp; Pearson, V., 2005; Lombardi, J., 2008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AFF-A264-4496-9D49-6F204CD85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C298D-392E-4586-8094-1CF1A7317D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1 Dual-Langu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853452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ingual Education Act, (Elementary and Secondary Education Act of 1968): every school must have a bilingual education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m Cummins, University of Toronto:  “Developmental interdependence Hypothesis”; “Threshold Hypothesi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ahoma"/>
              </a:rPr>
              <a:t>Rationale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cond language acquisition is dependant on mastery of native language skills: First set of skills in L1 easily transferred to L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ative English speakers are not harmed academ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struction is primarily through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4-6 years of bilingual i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operative learning st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ualified teaching perso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rget language (L2) used 50%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guistic and academic proficiency develops in two languages simultaneou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LLs and native English-speakers perform at or above grade level in both            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igh self-esteem &amp; positive attitude for other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D30-CB8D-4017-B292-075698D458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CD171-66A9-480E-A0BA-D5F5ED7FB6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#1 Dual-Languag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C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yies “time-on-task” princi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he more time spent on a subject, the more that subject will be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ry to research demonstrating that language is best acquired early on in lif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f student learning in L1 most of day for several years, illogical to conclude that will be fluent in L2 when they are 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018-88C2-4E47-B687-17E3752225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FA328-E7FE-4525-938A-63B2011A5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2 Structured English Immer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6600"/>
                </a:solidFill>
                <a:uFillTx/>
                <a:latin typeface="Tahoma"/>
              </a:rPr>
              <a:t>P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LLs= Eng. Lang. Learn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ll instruction done in Englis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ainstream classro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eachers specially trained in bilingual education or ESL train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Visual aids highly recommen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roup/paired work highly recommen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alking among classmates should not necessarily be seen as thre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ulti-media can accomplish what teacher cannot, (address all learning styl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earning style: the natural, habitual, preferred way(s) for an individual to lear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inguistic &amp; Logical intellige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Linguistic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word smart"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Logical-mathematic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number/reasoning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pati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pictur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odily-Kinesthetic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body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usic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music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terperson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peopl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trapersonal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self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Naturalist intelligenc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("nature smart"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rning styles heavily influenced by cultu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ral dominant learning styles present in a classroom, likel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DD3-3823-4BE7-A1EE-2BB635D091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12CC9-8E5D-4FE5-9939-D80822A2C3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#2 Structured English Immer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6600"/>
                </a:solidFill>
                <a:uFillTx/>
                <a:latin typeface="Tahoma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s mostly taught in linguistic manner (Pro &amp; C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anguage that is highly methodic is ineff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ulturally acceptable element missing from most instructional methods: kits, folders, books, tech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 children who possess other intelligences label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arning disab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D (Attention Deficit Disor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derachie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CBF-05A6-4834-B499-CF02E788D5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E0730-2D29-4D10-88DA-A5FF65D3C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Immersion Experi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 conducted workshop for colle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d herself, gave verbal instru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was accomplished when colleagues translated for each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er finally spoke in Engl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dees were compliant, confused, angry, unattac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for teachers: (see previous slides under ‘pros’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dterm Presentation - Garcia                     Ed. 702.2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9C5-0431-4C25-8E7B-2FF3E32CD8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C2E78-9B56-4A1D-9349-8551D8D1C7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0:33:08Z</dcterms:created>
  <dc:creator>sgarcia</dc:creator>
  <dc:description/>
  <dc:language>en-US</dc:language>
  <cp:lastModifiedBy>sgarcia</cp:lastModifiedBy>
  <dcterms:modified xsi:type="dcterms:W3CDTF">2010-03-26T02:43:37Z</dcterms:modified>
  <cp:revision>5</cp:revision>
  <dc:subject/>
  <dc:title>Bilingual Programs, (Dual-Language &amp; Immersion), and Learning Modalities</dc:title>
</cp:coreProperties>
</file>